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pic>
        <p:nvPicPr>
          <p:cNvPr id="3" name="Picture 8" descr="LOGO"/>
          <p:cNvPicPr/>
          <p:nvPr/>
        </p:nvPicPr>
        <p:blipFill>
          <a:blip r:embed="rId3"/>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нтегрисане академске студије фармације</a:t>
            </a:r>
            <a:endParaRPr b="0" lang="en-US" sz="3600" spc="-1" strike="noStrike">
              <a:solidFill>
                <a:srgbClr val="000000"/>
              </a:solidFill>
              <a:latin typeface="Arial"/>
            </a:endParaRPr>
          </a:p>
        </p:txBody>
      </p:sp>
      <p:sp>
        <p:nvSpPr>
          <p:cNvPr id="4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мет: Енглески јези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авач: Душица Лазић</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in the right word:</a:t>
            </a:r>
            <a:endParaRPr b="0" lang="en-US" sz="2800" spc="-1" strike="noStrike">
              <a:solidFill>
                <a:srgbClr val="000000"/>
              </a:solidFill>
              <a:latin typeface="Arial"/>
            </a:endParaRPr>
          </a:p>
        </p:txBody>
      </p:sp>
      <p:sp>
        <p:nvSpPr>
          <p:cNvPr id="5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iver of the bus was ________injured. (serious/serious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go along this path. It doesn’t look________. (safe/saf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fell and cut himself__________. (bad/bad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as a _________ change in her behavior. (sudden/sudde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young man behaves very__________. (selfish/selfishly)</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in the right word:</a:t>
            </a:r>
            <a:endParaRPr b="0" lang="en-US" sz="2800" spc="-1" strike="noStrike">
              <a:solidFill>
                <a:srgbClr val="000000"/>
              </a:solidFill>
              <a:latin typeface="Arial"/>
            </a:endParaRPr>
          </a:p>
        </p:txBody>
      </p:sp>
      <p:sp>
        <p:nvSpPr>
          <p:cNvPr id="61"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es she always feel __________before examinations? (nervous/nervous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speaks English __________ although he has learned it only for two years. (fluent/flu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__________ upset about failing this exam. (terrible/terrib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 into English:</a:t>
            </a:r>
            <a:endParaRPr b="0" lang="en-US" sz="2800" spc="-1" strike="noStrike">
              <a:solidFill>
                <a:srgbClr val="000000"/>
              </a:solidFill>
              <a:latin typeface="Arial"/>
            </a:endParaRPr>
          </a:p>
        </p:txBody>
      </p:sp>
      <p:sp>
        <p:nvSpPr>
          <p:cNvPr id="63"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евести краћи текст о витаминима на енглески језик.</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s</a:t>
            </a:r>
            <a:endParaRPr b="0" lang="en-US" sz="2800" spc="-1" strike="noStrike">
              <a:solidFill>
                <a:srgbClr val="000000"/>
              </a:solidFill>
              <a:latin typeface="Arial"/>
            </a:endParaRPr>
          </a:p>
        </p:txBody>
      </p:sp>
      <p:sp>
        <p:nvSpPr>
          <p:cNvPr id="43"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wisdom asserts that vitamins are pills that you should take for good health. A dictionary states that a vitamin is any of a number of unrelated complex organic substances found variously in most foods and essential in small amounts for normal functioning of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exists an interdependence of vitamins, minerals, and enzymes that is totally ignored in our existing food chain. We know that vitamins are complex chemical substances which are indispensable to nutri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t of the lesson can be found in the textbook “English Language in Pharmacy Practice” by Leontina Kernica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5"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ergist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e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tr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lipidem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urs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tic ac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ur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cepti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rup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am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bovlavi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ac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idox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balam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ac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 points:</a:t>
            </a:r>
            <a:endParaRPr b="0" lang="en-US" sz="2800" spc="-1" strike="noStrike">
              <a:solidFill>
                <a:srgbClr val="000000"/>
              </a:solidFill>
              <a:latin typeface="Arial"/>
            </a:endParaRPr>
          </a:p>
        </p:txBody>
      </p:sp>
      <p:sp>
        <p:nvSpPr>
          <p:cNvPr id="4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lassification of vitami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role of vitami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Vitamin B compl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importance of vitamin 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Vitamins A, D, K and 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the correct word in the following sentences from the list below:</a:t>
            </a:r>
            <a:br>
              <a:rPr sz="2400"/>
            </a:br>
            <a:r>
              <a:rPr b="0" lang="en-US" sz="2400" spc="-1" strike="noStrike">
                <a:solidFill>
                  <a:srgbClr val="000000"/>
                </a:solidFill>
                <a:latin typeface="Arial"/>
              </a:rPr>
              <a:t>dietary, formation, catalysts, disrupt, deficiency, fat-soluble, scurvy, alfalfa</a:t>
            </a:r>
            <a:endParaRPr b="0" lang="en-US" sz="2400" spc="-1" strike="noStrike">
              <a:solidFill>
                <a:srgbClr val="000000"/>
              </a:solidFill>
              <a:latin typeface="Arial"/>
            </a:endParaRPr>
          </a:p>
        </p:txBody>
      </p:sp>
      <p:sp>
        <p:nvSpPr>
          <p:cNvPr id="51"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nutrients are___________components, utilized in the reactions regulated by vitam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ic manifestation of severe ascorbic acid deficiency is called___________.</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chest source of vitamin K are fish liver and ________.</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tamins assist in the ___________ of hormones, blood cells, nervous-system chemicals and genetic materi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tamins A, D, K and E are___________ vitamins generally consumed with fat-containing fo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tamins generally act as___________ combining with proteins to create metabolically active enzy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ce of a vitamin may __________ the metabolic balance within a c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tamin D __________ may cause a disease called rickets.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nouns ending in “tion” from the following verbs and use each of them in a sentence:</a:t>
            </a:r>
            <a:endParaRPr b="0" lang="en-US" sz="2800" spc="-1" strike="noStrike">
              <a:solidFill>
                <a:srgbClr val="000000"/>
              </a:solidFill>
              <a:latin typeface="Arial"/>
            </a:endParaRPr>
          </a:p>
        </p:txBody>
      </p:sp>
      <p:sp>
        <p:nvSpPr>
          <p:cNvPr id="55"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ru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r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rite the following sentences in the Passive Voice:</a:t>
            </a:r>
            <a:endParaRPr b="0" lang="en-US" sz="2800" spc="-1" strike="noStrike">
              <a:solidFill>
                <a:srgbClr val="000000"/>
              </a:solidFill>
              <a:latin typeface="Arial"/>
            </a:endParaRPr>
          </a:p>
        </p:txBody>
      </p:sp>
      <p:sp>
        <p:nvSpPr>
          <p:cNvPr id="57"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building three new pharmacies in this tow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s could use these scientific methods in their re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cientists claim that smoking causes lung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lowed him enough money to perform his experi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ctor will examine this patient immedi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experts have recognized his work as one of the b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3-15T11:49:08Z</dcterms:modified>
  <cp:revision>13</cp:revision>
  <dc:subject/>
  <dc:title>Slide 1</dc:title>
</cp:coreProperties>
</file>